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F0DDB-6AA2-4DF1-9D6A-27936B481C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99976-021C-4265-B8B6-BF51172EB3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商的变化规律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运用商不变的规律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6"/>
          <p:cNvSpPr/>
          <p:nvPr/>
        </p:nvSpPr>
        <p:spPr>
          <a:xfrm>
            <a:off x="1119240" y="1763640"/>
            <a:ext cx="702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正确答案的序号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1900÷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…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2010÷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商和余数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6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矩形 1"/>
          <p:cNvSpPr/>
          <p:nvPr/>
        </p:nvSpPr>
        <p:spPr>
          <a:xfrm>
            <a:off x="4232160" y="24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5490000" y="3546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6"/>
          <p:cNvSpPr/>
          <p:nvPr/>
        </p:nvSpPr>
        <p:spPr>
          <a:xfrm>
            <a:off x="965160" y="1276200"/>
            <a:ext cx="722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0÷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下面的计算方法错误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20÷7)÷(21÷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0÷7÷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÷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数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……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甲数与乙数同时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时，余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6987240" y="142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4872240" y="4037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解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箱蜜蜂一年可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蜂蜜。奶奶家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箱这样的蜜蜂，一年可酿蜂蜜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592360" y="32972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0÷15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年可酿蜂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具店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自动铅笔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钢笔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刘老师准备为同学们购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自动铅笔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钢笔，一共需要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2797200" y="2960640"/>
            <a:ext cx="35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      21÷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×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×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一共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3"/>
          <p:cNvSpPr/>
          <p:nvPr/>
        </p:nvSpPr>
        <p:spPr>
          <a:xfrm>
            <a:off x="990720" y="1994040"/>
            <a:ext cx="71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两数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中一个加数的个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去掉，就与另一个加数相同，这两个加数分别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100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矩形 6"/>
          <p:cNvSpPr/>
          <p:nvPr/>
        </p:nvSpPr>
        <p:spPr>
          <a:xfrm>
            <a:off x="2249640" y="3646440"/>
            <a:ext cx="464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6÷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两个加数分别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0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43:29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